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5E0C9-CE7E-410B-B7FB-429B9A69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F588B-6EDC-4A8A-94C8-4730C1E9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E0AF7-60F9-456C-943E-FF7B95C5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5EEE2-3744-48E0-9FEB-B3B49A8C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F947-A5E1-4EB1-93CD-605960BC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1419-CAEF-45FB-A670-7CC66AEB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962D-072D-42E0-8D03-E65DC174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9BD3-16E4-4683-8B53-4E60672A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92C0-6DC1-42AF-99DD-504DC510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AB3F-44E7-4A76-8E79-6C567C0D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10F3-F693-4243-8399-75BE4E17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CD9FE-9565-478E-9089-81AD5BF2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3ACD-2B49-4366-86AC-D1F79ED6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E56C-AB09-4137-BCE2-86718483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3518-9481-4105-8F36-E0F3440E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4EFA-9162-48E7-A6D4-8F24C94A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B48E-0EF8-4AB7-904D-1E5932DD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CE830-8C14-40D4-82C9-735A4AA5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031BA-F887-4D30-AA0A-EE27485D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BF0AB-1EAE-4B88-984A-E965A9C6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CACDE-012E-423D-A561-EB8CF703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E3C81-FEFE-44DE-95E7-3322A3A7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B7B58-C426-482C-9CC9-067E0EF9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77225-EB0E-4C40-8CAE-C16E6AC3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C721-0146-414C-9400-4BBF329D57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B6AA-3DD8-4961-BC19-E113D10E35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18288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etrolul mi</a:t>
            </a:r>
            <a:r>
              <a:rPr b="0" lang="ro-RO" sz="5000" spc="-1" strike="noStrike">
                <a:solidFill>
                  <a:srgbClr val="ffffff"/>
                </a:solidFill>
                <a:latin typeface="Arial"/>
              </a:rPr>
              <a:t>şcă omenire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-  motoare term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04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asa a X a A 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533412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* Citiţi întrebările care vor urma, scrieţi răspunsurile voastre în coloanele corespunzătoare ale tabeluluicare urmează iar când terminaţi, faceţi o sinteză a acestora, apoi completaţi tabelul pe calculato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sunt combustibilii fosi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ce sunt folosiţi combustibili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uteţi da exemple de motoare term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funcţionează motorul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ce depinde funcţionarea unui motor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âte tipuri de motoare termice exist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este cel mai mare defect al motoarelor term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038480" y="457200"/>
            <a:ext cx="1498680" cy="1123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2057400" cy="1147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4983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ă rog să desenaţi pe foaie tabelul de mai 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e sunt folosi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ţi combustibil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ul de la maşin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i de la autobu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sunt combustibilii fos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 funcţionează motor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e depinde funcţionarea motorulu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te feluri exist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defecte au motoare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ntinu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1:36:28Z</dcterms:created>
  <dc:creator>elev</dc:creator>
  <dc:description/>
  <dc:language>en-US</dc:language>
  <cp:lastModifiedBy>user</cp:lastModifiedBy>
  <dcterms:modified xsi:type="dcterms:W3CDTF">2010-06-03T07:46:41Z</dcterms:modified>
  <cp:revision>6</cp:revision>
  <dc:subject/>
  <dc:title>Petrolul mişcă omenirea</dc:title>
</cp:coreProperties>
</file>